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FA20-FB51-40C6-8360-B983A9C8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C39D-EB06-4180-93B0-6F2D09CB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4FD9-6706-4C87-8037-77D797C4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D8F8-DBD8-4429-BF4C-995D3B68F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9606-54F1-4DEC-A77E-D90B06A0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BAD9-E0FB-4CC1-BF34-EF6DEDCE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5995-36FF-4059-B527-57D0D456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D3A3-7C07-4948-B5FD-AC0A6E77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C168-6480-4907-B87F-398159F3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9938-E92C-4666-85AC-16E7A32B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6D90-8DE2-46BA-8FE7-77ACAEB7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13FC-52D4-470D-A2B1-A73D035D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75DD-DD3B-4B0E-A4B9-5684319E8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65480" y="3170160"/>
          <a:ext cx="4610160" cy="17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5480" y="3170160"/>
                    <a:ext cx="4610160" cy="17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rosa Villa/Columbus Oh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055 Sinclair Rd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614) 885-2588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SR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248520" y="22860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ge R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 System Spec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8600" y="3429000"/>
          <a:ext cx="8763120" cy="3362400"/>
        </p:xfrm>
        <a:graphic>
          <a:graphicData uri="http://schemas.openxmlformats.org/drawingml/2006/table">
            <a:tbl>
              <a:tblPr/>
              <a:tblGrid>
                <a:gridCol w="3657600"/>
                <a:gridCol w="5105520"/>
              </a:tblGrid>
              <a:tr h="69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8) High Range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1600" spc="-1" strike="noStrike" u="sng">
                          <a:solidFill>
                            <a:srgbClr val="009900"/>
                          </a:solidFill>
                          <a:uFillTx/>
                          <a:latin typeface="Times New Roman"/>
                        </a:rPr>
                        <a:t>4 per sid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” Throat JBL High Frequency Driv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8) Mid High Range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1600" spc="-1" strike="noStrike" u="sng">
                          <a:solidFill>
                            <a:srgbClr val="009900"/>
                          </a:solidFill>
                          <a:uFillTx/>
                          <a:latin typeface="Times New Roman"/>
                        </a:rPr>
                        <a:t>4 per sid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” JB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8) Mid Range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1600" spc="-1" strike="noStrike" u="sng">
                          <a:solidFill>
                            <a:srgbClr val="009900"/>
                          </a:solidFill>
                          <a:uFillTx/>
                          <a:latin typeface="Times New Roman"/>
                        </a:rPr>
                        <a:t>4 per sid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” JB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2) Sub Woofers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1600" spc="-1" strike="noStrike" u="sng">
                          <a:solidFill>
                            <a:srgbClr val="009900"/>
                          </a:solidFill>
                          <a:uFillTx/>
                          <a:latin typeface="Times New Roman"/>
                        </a:rPr>
                        <a:t>6 per sid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” JB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 4 Way Crosso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ookesiren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DS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 3way Delay Speak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rbo Sound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MS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)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 Amplifiers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1600" spc="-1" strike="noStrike" u="sng">
                          <a:solidFill>
                            <a:srgbClr val="009900"/>
                          </a:solidFill>
                          <a:uFillTx/>
                          <a:latin typeface="Times New Roman"/>
                        </a:rPr>
                        <a:t>5 per sid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hley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TX/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1066680" y="25909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pproximately 20’000 Wat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17524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4 Way Ster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2971800"/>
            <a:ext cx="240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H Specif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2280" y="3200400"/>
          <a:ext cx="8991720" cy="3425760"/>
        </p:xfrm>
        <a:graphic>
          <a:graphicData uri="http://schemas.openxmlformats.org/drawingml/2006/table">
            <a:tbl>
              <a:tblPr/>
              <a:tblGrid>
                <a:gridCol w="4051440"/>
                <a:gridCol w="4940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H cons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kie           40.8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H Proces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en-US" sz="16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In order of Aux sends 1~4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 Aux 5~8 avail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 Lexicon       PCM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 Yamaha       SPX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 Yamaha       SPX90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 Yamaha       Rev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H G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H Com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8) Behringer G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8) Behringer Compress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H Dr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hly GQX 3102 Stereo Equaliz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 Behringer Composer P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itor World Specif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990720" y="2362320"/>
          <a:ext cx="7086600" cy="3622680"/>
        </p:xfrm>
        <a:graphic>
          <a:graphicData uri="http://schemas.openxmlformats.org/drawingml/2006/table">
            <a:tbl>
              <a:tblPr/>
              <a:tblGrid>
                <a:gridCol w="7086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 Sound Tracs MCX 32x10 Conso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8) Ashley GQX/3102 Graphic Equaliz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 Behringer Super X (4) 2way crossov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8) Ashley FTX/2000 Power Amplifi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 Behringer Super X (1) 3way crosso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 2 Way Brookesiren SDF-320 Crossover </a:t>
                      </a: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stere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 Talk Back from F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1600200" y="19051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itor Specif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04920" y="1752480"/>
          <a:ext cx="8534160" cy="4780080"/>
        </p:xfrm>
        <a:graphic>
          <a:graphicData uri="http://schemas.openxmlformats.org/drawingml/2006/table">
            <a:tbl>
              <a:tblPr/>
              <a:tblGrid>
                <a:gridCol w="3544920"/>
                <a:gridCol w="4989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EM/Quant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aker Siz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 JBL Wedge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 Amp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 15”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 cab ea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 1” High Frequency Horns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 cab ea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 Turbo Sound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XD 58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ide Fi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”</a:t>
                      </a: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 cab ea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 12”  x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 1’’ High Frequency Ho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 JBL Drum Box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 Amp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 15”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 12”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 2” Throat JBL High Frequency Hor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 Yamaha Wed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(</a:t>
                      </a:r>
                      <a:r>
                        <a:rPr b="0" i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Floater Mixes “Passive”</a:t>
                      </a:r>
                      <a:r>
                        <a:rPr b="0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 15”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 cab ea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 1” High Frequency Horns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 cab ea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crophone/Accessory 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447920" y="2362320"/>
          <a:ext cx="6172200" cy="3422520"/>
        </p:xfrm>
        <a:graphic>
          <a:graphicData uri="http://schemas.openxmlformats.org/drawingml/2006/table">
            <a:tbl>
              <a:tblPr/>
              <a:tblGrid>
                <a:gridCol w="6172200"/>
              </a:tblGrid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) Sure Beta 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 Sure Beta 57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) Sure SM 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) Sure BG 4.1 conden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) Senheisser 6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) Sure SM 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) Active Direct Input Box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1523880" y="59436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Times New Roman"/>
              </a:rPr>
              <a:t>House supplies all microphone stands and c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flipV="1">
            <a:off x="8077320" y="2894760"/>
            <a:ext cx="1066680" cy="6858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0" y="2894760"/>
            <a:ext cx="1066680" cy="6858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ge Lay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22096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2438280"/>
            <a:ext cx="7010640" cy="4572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87878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2895480"/>
            <a:ext cx="7010640" cy="3429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4495680"/>
            <a:ext cx="2209680" cy="1752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um Ri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077320" y="3886200"/>
            <a:ext cx="1066680" cy="2438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886200"/>
            <a:ext cx="1066680" cy="2438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01000" y="3505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de F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505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de F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98108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A Su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153280" y="198108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u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91540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1905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1’6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49528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1600200" y="2361960"/>
            <a:ext cx="1440" cy="19047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22096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91120" y="5562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’x 8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16765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Down Stage Ht. 8’7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6400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Up Stage Ht.10’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685800" cy="1676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-1019160" y="368676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onitor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2"/>
          </p:cNvPr>
          <p:cNvSpPr/>
          <p:nvPr/>
        </p:nvSpPr>
        <p:spPr>
          <a:xfrm>
            <a:off x="380880" y="29718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8406"/>
                </a:moveTo>
                <a:lnTo>
                  <a:pt x="9575" y="8406"/>
                </a:lnTo>
                <a:lnTo>
                  <a:pt x="13997" y="3794"/>
                </a:lnTo>
                <a:lnTo>
                  <a:pt x="13997" y="17806"/>
                </a:lnTo>
                <a:lnTo>
                  <a:pt x="9575" y="13194"/>
                </a:lnTo>
                <a:lnTo>
                  <a:pt x="5145" y="13194"/>
                </a:lnTo>
                <a:close/>
              </a:path>
              <a:path fill="darken" w="24303" h="21600">
                <a:moveTo>
                  <a:pt x="15650" y="10800"/>
                </a:moveTo>
                <a:lnTo>
                  <a:pt x="19158" y="10800"/>
                </a:lnTo>
              </a:path>
              <a:path fill="darken" w="24303" h="21600">
                <a:moveTo>
                  <a:pt x="15650" y="8406"/>
                </a:moveTo>
                <a:lnTo>
                  <a:pt x="19158" y="5639"/>
                </a:lnTo>
              </a:path>
              <a:path fill="darken" w="24303" h="21600">
                <a:moveTo>
                  <a:pt x="15650" y="13194"/>
                </a:moveTo>
                <a:lnTo>
                  <a:pt x="19158" y="15961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04920" y="3352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3"/>
          </p:cNvPr>
          <p:cNvSpPr/>
          <p:nvPr/>
        </p:nvSpPr>
        <p:spPr>
          <a:xfrm rot="10786800">
            <a:off x="8076600" y="297108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8406"/>
                </a:moveTo>
                <a:lnTo>
                  <a:pt x="9575" y="8406"/>
                </a:lnTo>
                <a:lnTo>
                  <a:pt x="13997" y="3794"/>
                </a:lnTo>
                <a:lnTo>
                  <a:pt x="13997" y="17806"/>
                </a:lnTo>
                <a:lnTo>
                  <a:pt x="9575" y="13194"/>
                </a:lnTo>
                <a:lnTo>
                  <a:pt x="5145" y="13194"/>
                </a:lnTo>
                <a:close/>
              </a:path>
              <a:path fill="darken" w="24303" h="21600">
                <a:moveTo>
                  <a:pt x="15650" y="10800"/>
                </a:moveTo>
                <a:lnTo>
                  <a:pt x="19158" y="10800"/>
                </a:lnTo>
              </a:path>
              <a:path fill="darken" w="24303" h="21600">
                <a:moveTo>
                  <a:pt x="15650" y="8406"/>
                </a:moveTo>
                <a:lnTo>
                  <a:pt x="19158" y="5639"/>
                </a:lnTo>
              </a:path>
              <a:path fill="darken" w="24303" h="21600">
                <a:moveTo>
                  <a:pt x="15650" y="13194"/>
                </a:moveTo>
                <a:lnTo>
                  <a:pt x="19158" y="15961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8451720" y="3435120"/>
            <a:ext cx="2408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SL" descr=""/>
          <p:cNvPicPr/>
          <p:nvPr/>
        </p:nvPicPr>
        <p:blipFill>
          <a:blip r:embed="rId1"/>
          <a:stretch/>
        </p:blipFill>
        <p:spPr>
          <a:xfrm>
            <a:off x="0" y="0"/>
            <a:ext cx="10969560" cy="8226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ge Le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FH" descr=""/>
          <p:cNvPicPr/>
          <p:nvPr/>
        </p:nvPicPr>
        <p:blipFill>
          <a:blip r:embed="rId1"/>
          <a:stretch/>
        </p:blipFill>
        <p:spPr>
          <a:xfrm>
            <a:off x="0" y="0"/>
            <a:ext cx="10969560" cy="8228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819520" y="30492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enter St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07:00:04Z</dcterms:created>
  <dc:creator>dljordan</dc:creator>
  <dc:description/>
  <dc:language>en-US</dc:language>
  <cp:lastModifiedBy>dljordan</cp:lastModifiedBy>
  <dcterms:modified xsi:type="dcterms:W3CDTF">2000-08-28T22:50:01Z</dcterms:modified>
  <cp:revision>23</cp:revision>
  <dc:subject>Public </dc:subject>
  <dc:title>Alrosa Villa Org Chart</dc:title>
</cp:coreProperties>
</file>